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7.wmf" ContentType="image/x-wm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D363-7413-442D-8D32-FE4662091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0CF8-E48B-4506-9054-3B07B875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B53E-8FC5-4A3F-8AC3-F9663B4F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A5FA-B07B-46FE-B0A8-124850B8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D173-3D1C-4610-A39B-D8870BF9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369F-2247-42A6-BA2B-12F22B93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5452-8E94-4557-ADB0-5A133D67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B35C-DE16-494B-84BA-6AA36B10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85BC-1A2D-4044-9B8E-98B51416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33FF-982A-4542-A826-11D5366E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2519-075C-4394-9F62-9A87733B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AF17-7068-47DC-BA51-59A52C6A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46B4-98EA-4D96-B843-4FB767EA4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392\other392\Biology 392\Unit 3 - Chapters 2,38\Human Digestive System.jpg"/>
          <p:cNvPicPr/>
          <p:nvPr/>
        </p:nvPicPr>
        <p:blipFill>
          <a:blip r:embed="rId1"/>
          <a:stretch/>
        </p:blipFill>
        <p:spPr>
          <a:xfrm>
            <a:off x="5638680" y="380880"/>
            <a:ext cx="3391200" cy="6164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CESS OF DIG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apter 38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iology 3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33520" y="380880"/>
          <a:ext cx="8229600" cy="6365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THER SUBSTANCES INVOVLED IN DIGES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OF 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istens F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c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ophagus, Stom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. &amp; Lg. Intest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lps food move eas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tects org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drochloric Acid (HC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m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lps breakdown f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ls bac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dium bicarbo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Intest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made in pancrea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utralizes acid so enzymes can 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intest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made in liver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red in gall bladd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arates fat droplets, making them easier to break dow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2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c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 Intest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lp breakdown f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e vitamin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SOR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ym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e broken into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nomers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y mus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“enter” the bod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amp; be circul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sorbed across the cell membranes of each cell lining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mall intes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area of S.I. is increased by fo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Villi and microvil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F:\392\other392\Biology 392\Unit 3 - Chapters 2,38\villi.gif"/>
          <p:cNvPicPr/>
          <p:nvPr/>
        </p:nvPicPr>
        <p:blipFill>
          <a:blip r:embed="rId1"/>
          <a:stretch/>
        </p:blipFill>
        <p:spPr>
          <a:xfrm>
            <a:off x="304920" y="380880"/>
            <a:ext cx="8534160" cy="62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SORPTION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lso absorb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rs across the wall of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arge Intes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that is left is concentrated wa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igested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ulose, fi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IM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F:\392\other392\Biology 392\Unit 3 - Chapters 2,38\gisystem275.gif"/>
          <p:cNvPicPr/>
          <p:nvPr/>
        </p:nvPicPr>
        <p:blipFill>
          <a:blip r:embed="rId1"/>
          <a:stretch/>
        </p:blipFill>
        <p:spPr>
          <a:xfrm>
            <a:off x="533520" y="1143000"/>
            <a:ext cx="3886200" cy="5459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ndigested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ves through large intestine and is held in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ctum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until it is eliminat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OR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artbur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tomach acid enters esophagus because of weak cardiac sphinc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ptic Ulc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ole in stomach wall caused by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licobacter pylor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The pain is caused by the ac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arrhe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ot enough water is absorb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stipa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o much water is absorb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abete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lucose cannot enter cells of body very well, therefore glucose cannot get turned into energy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3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4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abe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iller in America (and ris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ncrea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nnot produce insulin or the body does not use it proper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ulin is a hormon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decreases the amount of sugar in the blood by helping i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ter the cell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the b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ucose does not enter cells easily, insulin must “act like a butler” and bind to a cell membrane protein to help it 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Down Arrow 3"/>
          <p:cNvSpPr/>
          <p:nvPr/>
        </p:nvSpPr>
        <p:spPr>
          <a:xfrm>
            <a:off x="8229600" y="289548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MCj02798720000[1]"/>
          <p:cNvPicPr/>
          <p:nvPr/>
        </p:nvPicPr>
        <p:blipFill>
          <a:blip r:embed="rId1"/>
          <a:stretch/>
        </p:blipFill>
        <p:spPr>
          <a:xfrm>
            <a:off x="7238880" y="4800600"/>
            <a:ext cx="15177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2 types of diges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oes digestion begi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oes MOST digestion happ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o nutrients enter th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f the body? (i.e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eave the GI tra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F:\392\other392\Biology 392\Unit 3 - Chapters 2,38\villi.gif"/>
          <p:cNvPicPr/>
          <p:nvPr/>
        </p:nvPicPr>
        <p:blipFill>
          <a:blip r:embed="rId1"/>
          <a:stretch/>
        </p:blipFill>
        <p:spPr>
          <a:xfrm>
            <a:off x="3143160" y="1943280"/>
            <a:ext cx="2857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F:\392\other392\Biology 392\Unit 3 - Chapters 2,38\color.gif"/>
          <p:cNvPicPr/>
          <p:nvPr/>
        </p:nvPicPr>
        <p:blipFill>
          <a:blip r:embed="rId1"/>
          <a:stretch/>
        </p:blipFill>
        <p:spPr>
          <a:xfrm>
            <a:off x="2685960" y="2116080"/>
            <a:ext cx="377208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gestive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90360" y="837720"/>
            <a:ext cx="33526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50904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Dig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01040" indent="-5086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. Mechan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01040" indent="-5086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. Chem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Absor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F:\392\other392\Biology 392\Unit 3 - Chapters 2,38\color.gif"/>
          <p:cNvPicPr/>
          <p:nvPr/>
        </p:nvPicPr>
        <p:blipFill>
          <a:blip r:embed="rId1"/>
          <a:stretch/>
        </p:blipFill>
        <p:spPr>
          <a:xfrm>
            <a:off x="4781520" y="1295280"/>
            <a:ext cx="37720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F:\392\other392\Biology 392\Unit 3 - Chapters 2,38\gisystem275.gif"/>
          <p:cNvPicPr/>
          <p:nvPr/>
        </p:nvPicPr>
        <p:blipFill>
          <a:blip r:embed="rId1"/>
          <a:stretch/>
        </p:blipFill>
        <p:spPr>
          <a:xfrm>
            <a:off x="3262320" y="2592360"/>
            <a:ext cx="26193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F:\392\other392\Biology 392\Unit 3 - Chapters 2,38\glucose.gif"/>
          <p:cNvPicPr/>
          <p:nvPr/>
        </p:nvPicPr>
        <p:blipFill>
          <a:blip r:embed="rId1"/>
          <a:stretch/>
        </p:blipFill>
        <p:spPr>
          <a:xfrm>
            <a:off x="4038480" y="3276720"/>
            <a:ext cx="9716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F:\392\other392\Biology 392\Unit 3 - Chapters 2,38\glucose.gif"/>
          <p:cNvPicPr/>
          <p:nvPr/>
        </p:nvPicPr>
        <p:blipFill>
          <a:blip r:embed="rId1"/>
          <a:stretch/>
        </p:blipFill>
        <p:spPr>
          <a:xfrm>
            <a:off x="6705720" y="3200400"/>
            <a:ext cx="971280" cy="1428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Program Files\Microsoft Office\MEDIA\CAGCAT10\j0295241.gif"/>
          <p:cNvPicPr/>
          <p:nvPr/>
        </p:nvPicPr>
        <p:blipFill>
          <a:blip r:embed="rId2"/>
          <a:stretch/>
        </p:blipFill>
        <p:spPr>
          <a:xfrm>
            <a:off x="228600" y="685800"/>
            <a:ext cx="3429000" cy="5070600"/>
          </a:xfrm>
          <a:prstGeom prst="rect">
            <a:avLst/>
          </a:prstGeom>
          <a:ln w="0">
            <a:noFill/>
          </a:ln>
        </p:spPr>
      </p:pic>
      <p:sp>
        <p:nvSpPr>
          <p:cNvPr id="50" name="Right Arrow 5"/>
          <p:cNvSpPr/>
          <p:nvPr/>
        </p:nvSpPr>
        <p:spPr>
          <a:xfrm>
            <a:off x="5029200" y="342900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4495680" y="1447920"/>
            <a:ext cx="3733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ing down large food molecules into smaller nutri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280040" y="4267080"/>
            <a:ext cx="2210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IN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DI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PERISTAL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ABSOR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DEFE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21333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OD TUB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u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aryn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ophag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m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 Intest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rge Intest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90960" y="1294920"/>
            <a:ext cx="28954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CESSORY ORG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790960" y="2174760"/>
            <a:ext cx="2895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e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livary Gl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nc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ll blad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F:\392\other392\Biology 392\Unit 3 - Chapters 2,38\gisystem275.gif"/>
          <p:cNvPicPr/>
          <p:nvPr/>
        </p:nvPicPr>
        <p:blipFill>
          <a:blip r:embed="rId1"/>
          <a:stretch/>
        </p:blipFill>
        <p:spPr>
          <a:xfrm>
            <a:off x="2971800" y="1828800"/>
            <a:ext cx="29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V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u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oistens &amp; tears food, results i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BOL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“chewed clump of food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sophagu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olus moves through tube b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PERISTALS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hythmic cont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phincter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ight rings of muscles that close and open to separate the different org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ctr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CARDIAC SPHINC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omac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fter churning, food is liquefied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CHY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ctr"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PYLORIC SPHINC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VEMENT (cont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istalsi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ovement through small intes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bsorp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rough villi of small intestine into blood stream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utrients travel everywher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 to all cells of body (brain is the priori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ins &amp; Carbs go into bl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fats go into lymphatic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is absorb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large intes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igested material passes through rectu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av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ody through an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8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 OF DIG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ysica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aking food into smaller parts by ripping, chu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ET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ear &amp; cru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MAC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hur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960" y="1371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CHEM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emic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zyme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reak bond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food molec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zymes are made and used by org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 always the s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enzyme i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ecif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a type of macromolecu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rb, fat or prote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does Digestion occur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Nutrient is Digest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905120"/>
          <a:ext cx="8153280" cy="4267080"/>
        </p:xfrm>
        <a:graphic>
          <a:graphicData uri="http://schemas.openxmlformats.org/drawingml/2006/table">
            <a:tbl>
              <a:tblPr/>
              <a:tblGrid>
                <a:gridCol w="2666880"/>
                <a:gridCol w="2743200"/>
                <a:gridCol w="274320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G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 OF DIGES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TRIENT DIGES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cha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m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bohydr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m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chan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m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te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Intest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m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80880" y="228600"/>
          <a:ext cx="8305920" cy="6281640"/>
        </p:xfrm>
        <a:graphic>
          <a:graphicData uri="http://schemas.openxmlformats.org/drawingml/2006/table">
            <a:tbl>
              <a:tblPr/>
              <a:tblGrid>
                <a:gridCol w="1409760"/>
                <a:gridCol w="1959120"/>
                <a:gridCol w="2820960"/>
                <a:gridCol w="2116080"/>
              </a:tblGrid>
              <a:tr h="611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ZYMES OF DIGES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OF 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TE of P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TRIENT DIGES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y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p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pa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yl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yp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ptid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ta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cr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ct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m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intest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intest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intest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intest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intest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intest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intest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ivary glan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ing of stoma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cre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cre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cr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ing of small intest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ing of small intest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ing of small intest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ing of small intest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bohyd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te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bohyd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te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bohyd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bohyd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te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bohyd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21:59:39Z</dcterms:created>
  <dc:creator>Joanne Lilliendahl</dc:creator>
  <dc:description/>
  <dc:language>en-US</dc:language>
  <cp:lastModifiedBy>MVanElli</cp:lastModifiedBy>
  <dcterms:modified xsi:type="dcterms:W3CDTF">2010-10-21T13:51:12Z</dcterms:modified>
  <cp:revision>28</cp:revision>
  <dc:subject/>
  <dc:title>PROCESS OF DIGESTION</dc:title>
</cp:coreProperties>
</file>